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cc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cc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cc"/>
              </a:solidFill>
              <a:latin typeface="Palatino Linotyp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cc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cc"/>
              </a:solidFill>
              <a:latin typeface="Palatino Linotyp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cc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cc"/>
              </a:solidFill>
              <a:latin typeface="Palatino Linotyp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cc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cc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cc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Palatino Linotype"/>
              </a:rPr>
              <a:t>Click to edit the title text format</a:t>
            </a:r>
            <a:endParaRPr b="1" lang="en-US" sz="4400" spc="-1" strike="noStrike">
              <a:solidFill>
                <a:srgbClr val="0066cc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11476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79280" y="6445080"/>
            <a:ext cx="2332080" cy="33048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179280" y="6249960"/>
            <a:ext cx="8785080" cy="142920"/>
            <a:chOff x="179280" y="6249960"/>
            <a:chExt cx="8785080" cy="142920"/>
          </a:xfrm>
        </p:grpSpPr>
        <p:sp>
          <p:nvSpPr>
            <p:cNvPr id="5" name=""/>
            <p:cNvSpPr/>
            <p:nvPr/>
          </p:nvSpPr>
          <p:spPr>
            <a:xfrm>
              <a:off x="179280" y="6249960"/>
              <a:ext cx="8785080" cy="1429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79280" y="6249960"/>
              <a:ext cx="87850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9280" y="6392880"/>
              <a:ext cx="87850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79280" y="6249960"/>
              <a:ext cx="0" cy="1429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964360" y="6249960"/>
              <a:ext cx="0" cy="1429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2209680"/>
            <a:ext cx="7772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2819520"/>
            <a:ext cx="77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5640" y="1052280"/>
            <a:ext cx="7086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Monitoring and Evaluation of MDR TB</a:t>
            </a:r>
            <a:endParaRPr b="1" lang="en-US" sz="4400" spc="-1" strike="noStrike">
              <a:solidFill>
                <a:srgbClr val="0066cc"/>
              </a:solidFill>
              <a:latin typeface="Palatino Linotyp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63640" y="4149720"/>
            <a:ext cx="5639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cc"/>
              </a:solidFill>
              <a:latin typeface="Palatino Linotype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K</a:t>
            </a:r>
            <a:r>
              <a:rPr b="1" lang="lt-LT" sz="2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ęstutis Miškinis,</a:t>
            </a:r>
            <a:endParaRPr b="0" lang="en-US" sz="2800" spc="-1" strike="noStrike">
              <a:solidFill>
                <a:srgbClr val="0066cc"/>
              </a:solidFill>
              <a:latin typeface="Palatino Linotype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Medical officer,</a:t>
            </a:r>
            <a:endParaRPr b="0" lang="en-US" sz="2800" spc="-1" strike="noStrike">
              <a:solidFill>
                <a:srgbClr val="0066cc"/>
              </a:solidFill>
              <a:latin typeface="Palatino Linotype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WHO Ukrainian country office</a:t>
            </a:r>
            <a:endParaRPr b="0" lang="en-US" sz="2800" spc="-1" strike="noStrike">
              <a:solidFill>
                <a:srgbClr val="0066cc"/>
              </a:solidFill>
              <a:latin typeface="Palatino Linotype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 Linotype"/>
              </a:rPr>
              <a:t>MDR Trends among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Palatino Linotype"/>
              </a:rPr>
              <a:t>New Cases in Lithuania and Estonia </a:t>
            </a:r>
            <a:endParaRPr b="1" lang="en-US" sz="3200" spc="-1" strike="noStrike">
              <a:solidFill>
                <a:srgbClr val="0066cc"/>
              </a:solidFill>
              <a:latin typeface="Palatino Linotype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79280" y="2060640"/>
          <a:ext cx="4178520" cy="403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060640"/>
                    <a:ext cx="417852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716360" y="2133720"/>
          <a:ext cx="4010040" cy="4078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2133720"/>
                    <a:ext cx="401004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4788000" y="1484280"/>
            <a:ext cx="43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idence-bounded MDR trend among new patients in Esto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1484280"/>
            <a:ext cx="4321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idence-bounded MDR trend among new patients in Lithu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Establishment of drug-resistance surveillance system</a:t>
            </a:r>
            <a:endParaRPr b="1" lang="en-US" sz="3600" spc="-1" strike="noStrike">
              <a:solidFill>
                <a:srgbClr val="0066cc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The sample of specimens should be representative of the TB patients;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The patient’s history should be carefully obtained (available to determine whether the patient has previously received anti-TB drugs);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The laboratory methods should meet internationally recommended standards; 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DST methods</a:t>
            </a:r>
            <a:endParaRPr b="1" lang="en-US" sz="3600" spc="-1" strike="noStrike">
              <a:solidFill>
                <a:srgbClr val="0066cc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Proportion;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Resistance ratio;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Absolute concentration;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BACTEC 460 radiometric;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Comparability of data is assured by: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Quality assurance;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Proficiency testing performed by Supranational Reference Laboratories 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Choice of drugs</a:t>
            </a:r>
            <a:endParaRPr b="1" lang="en-US" sz="3600" spc="-1" strike="noStrike">
              <a:solidFill>
                <a:srgbClr val="0066cc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Four out of six 1st line drugs: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Isoniazid (H);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Rifampicin (R);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Streptomycin (S);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Ethambutol (E);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Why these four?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Widely used;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Resistance can be reliably measured by standardized techniques;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Definitions of resistance</a:t>
            </a:r>
            <a:endParaRPr b="1" lang="en-US" sz="3600" spc="-1" strike="noStrike">
              <a:solidFill>
                <a:srgbClr val="0066cc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Resistance among previously treated cases (having been treated for tuberculosis for one month or more);</a:t>
            </a:r>
            <a:endParaRPr b="0" lang="en-US" sz="3600" spc="-1" strike="noStrike">
              <a:solidFill>
                <a:srgbClr val="0066cc"/>
              </a:solidFill>
              <a:latin typeface="Palatino Linotype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Resistance among new TB cases (denies having had prior anti-TB treatment);</a:t>
            </a:r>
            <a:endParaRPr b="0" lang="en-US" sz="3600" spc="-1" strike="noStrike">
              <a:solidFill>
                <a:srgbClr val="0066cc"/>
              </a:solidFill>
              <a:latin typeface="Palatino Linotype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Multi-drug resistance;</a:t>
            </a:r>
            <a:endParaRPr b="0" lang="en-US" sz="3600" spc="-1" strike="noStrike">
              <a:solidFill>
                <a:srgbClr val="0066cc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National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Reference Laboratory</a:t>
            </a:r>
            <a:endParaRPr b="1" lang="en-US" sz="3600" spc="-1" strike="noStrike">
              <a:solidFill>
                <a:srgbClr val="0066cc"/>
              </a:solidFill>
              <a:latin typeface="Palatino Linotyp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Is a reference institution on MDR surveillance. It: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Prepares cultures;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Undertakes identification of </a:t>
            </a: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Mycobacteria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;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Undertakes DST;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Ensures quality of DST performed by regional labs;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Establishes a regular “on-site” supervision;  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Organizing of surveillance</a:t>
            </a:r>
            <a:endParaRPr b="1" lang="en-US" sz="3600" spc="-1" strike="noStrike">
              <a:solidFill>
                <a:srgbClr val="0066cc"/>
              </a:solidFill>
              <a:latin typeface="Palatino Linotyp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Laboratories and diagnostic centers;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Sample size and sampling strategies;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Organization and survey outline (preparation, sampling, training, logistics);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Intake of patients (inclusion criteria, sputum-collection, registration, transport);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National Reference laboratory;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Data management and analysis;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Ukraine</a:t>
            </a:r>
            <a:endParaRPr b="1" lang="en-US" sz="3600" spc="-1" strike="noStrike">
              <a:solidFill>
                <a:srgbClr val="0066cc"/>
              </a:solidFill>
              <a:latin typeface="Palatino Linotyp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NRL is established, but not functioning;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QA is not implemented;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Proficiency testing hasn’t started yet;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Laboratory standards are defined, but not strictly followed;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Equipment is poor, purchase of new equipment and necessary supplies is often delayed;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Staff needs retraining and rejuvenation;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03280" y="41400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 Linotype"/>
              </a:rPr>
              <a:t>Trends in Anti-TB-Drug-Resistance in Ukraine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Feshchenko et al., Ukraine Chemotherapeutical Journal, 2000/3</a:t>
            </a:r>
            <a:br>
              <a:rPr sz="2000"/>
            </a:br>
            <a:endParaRPr b="1" lang="en-US" sz="2000" spc="-1" strike="noStrike">
              <a:solidFill>
                <a:srgbClr val="0066cc"/>
              </a:solidFill>
              <a:latin typeface="Palatino Linotype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600200"/>
          <a:ext cx="8229600" cy="4768920"/>
        </p:xfrm>
        <a:graphic>
          <a:graphicData uri="http://schemas.openxmlformats.org/drawingml/2006/table">
            <a:tbl>
              <a:tblPr/>
              <a:tblGrid>
                <a:gridCol w="946080"/>
                <a:gridCol w="1787760"/>
                <a:gridCol w="1571400"/>
                <a:gridCol w="793800"/>
                <a:gridCol w="2205000"/>
                <a:gridCol w="220680"/>
                <a:gridCol w="704880"/>
              </a:tblGrid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of Isol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st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str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s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scept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th resistance(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250920" y="225360"/>
          <a:ext cx="8893080" cy="643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25360"/>
                    <a:ext cx="8893080" cy="643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2013120" y="1628640"/>
          <a:ext cx="6271920" cy="4057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13120" y="1628640"/>
                    <a:ext cx="627192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2091960" y="569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20640" y="569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04680" y="569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08600" y="5705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994080" y="5705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92520" y="5705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78000" y="569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50880" y="569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61920" y="569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760" y="5705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67320" y="5634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25920" y="5634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11400" y="5634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08400" y="563256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97800" y="563256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11960" y="563256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926480" y="563256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40080" y="5634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54600" y="563256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95880" y="563256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28680" y="59785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243000" y="3434040"/>
            <a:ext cx="24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resistance (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94520" y="2087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94520" y="1557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94520" y="2637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94520" y="3192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94520" y="3770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94520" y="4308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94520" y="4862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95440" y="1773360"/>
            <a:ext cx="192240" cy="215640"/>
          </a:xfrm>
          <a:prstGeom prst="rect">
            <a:avLst/>
          </a:prstGeom>
          <a:solidFill>
            <a:srgbClr val="79ace5"/>
          </a:solidFill>
          <a:ln w="9360">
            <a:solidFill>
              <a:srgbClr val="ad0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95440" y="2060640"/>
            <a:ext cx="192240" cy="216000"/>
          </a:xfrm>
          <a:prstGeom prst="rect">
            <a:avLst/>
          </a:prstGeom>
          <a:solidFill>
            <a:srgbClr val="a404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95440" y="2349360"/>
            <a:ext cx="19224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64440" y="1706400"/>
            <a:ext cx="207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odrug res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81360" y="1992240"/>
            <a:ext cx="251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drug resistance M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560" y="2273400"/>
            <a:ext cx="174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ydrug res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835280" y="485280"/>
            <a:ext cx="73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 Linotype"/>
              </a:rPr>
              <a:t>Trends in Anti-TB-Drug-Resistance in Ukraine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Feshchenko et al., Ukraine Chemotherapeutical Journal, 2000/3</a:t>
            </a:r>
            <a:br>
              <a:rPr sz="2000"/>
            </a:br>
            <a:endParaRPr b="1" lang="en-US" sz="2000" spc="-1" strike="noStrike">
              <a:solidFill>
                <a:srgbClr val="0066cc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What is multidrug-resistant tuberculosis (MDR-TB)?</a:t>
            </a:r>
            <a:endParaRPr b="1" lang="en-US" sz="3600" spc="-1" strike="noStrike">
              <a:solidFill>
                <a:srgbClr val="0066cc"/>
              </a:solidFill>
              <a:latin typeface="Palatino Linotyp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TB bacilli resistant to at least two of the most powerful anti-TB agents: isoniazid and rifampicin</a:t>
            </a:r>
            <a:r>
              <a:rPr b="0" lang="lt-LT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;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One of the main aims of any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n</a:t>
            </a:r>
            <a:r>
              <a:rPr b="0" lang="lt-LT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ational TB program is to minimize the development of drug (multidrug) resistance;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203040" y="1535040"/>
          <a:ext cx="8839440" cy="4664160"/>
        </p:xfrm>
        <a:graphic>
          <a:graphicData uri="http://schemas.openxmlformats.org/drawingml/2006/table">
            <a:tbl>
              <a:tblPr/>
              <a:tblGrid>
                <a:gridCol w="1632240"/>
                <a:gridCol w="603000"/>
                <a:gridCol w="685800"/>
                <a:gridCol w="584280"/>
                <a:gridCol w="533520"/>
                <a:gridCol w="558720"/>
                <a:gridCol w="685800"/>
                <a:gridCol w="598320"/>
                <a:gridCol w="544680"/>
                <a:gridCol w="584280"/>
                <a:gridCol w="533160"/>
                <a:gridCol w="635040"/>
                <a:gridCol w="660600"/>
              </a:tblGrid>
              <a:tr h="825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cc"/>
                          </a:solidFill>
                          <a:latin typeface="Palatino Linotype"/>
                        </a:rPr>
                        <a:t>Civil sec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cc"/>
                          </a:solidFill>
                          <a:latin typeface="Palatino Linotype"/>
                        </a:rPr>
                        <a:t>Penitentiary sy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cc"/>
                          </a:solidFill>
                          <a:latin typeface="Palatino Linotype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n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Prev t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N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Prev t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N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Prev t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4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1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4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2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4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66cc"/>
                          </a:solidFill>
                          <a:latin typeface="Palatino Linotype"/>
                        </a:rPr>
                        <a:t>Susceptible strai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a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a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a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a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a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a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2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2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66cc"/>
                          </a:solidFill>
                          <a:latin typeface="Palatino Linotype"/>
                        </a:rPr>
                        <a:t>Resistant strai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1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1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2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cc"/>
                          </a:solidFill>
                          <a:latin typeface="Palatino Linotype"/>
                        </a:rPr>
                        <a:t>MD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cc"/>
                          </a:solidFill>
                          <a:latin typeface="Palatino Linotype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Palatino Linotype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cc"/>
                          </a:solidFill>
                          <a:latin typeface="Palatino Linotype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Palatino Linotype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cc"/>
                          </a:solidFill>
                          <a:latin typeface="Palatino Linotype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Palatino Linotype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cc"/>
                          </a:solidFill>
                          <a:latin typeface="Palatino Linotype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Palatino Linotype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cc"/>
                          </a:solidFill>
                          <a:latin typeface="Palatino Linotype"/>
                        </a:rPr>
                        <a:t>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cc"/>
                          </a:solidFill>
                          <a:latin typeface="Palatino Linotype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cc"/>
                          </a:solidFill>
                          <a:latin typeface="Palatino Linotype"/>
                        </a:rPr>
                        <a:t>1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cc"/>
                          </a:solidFill>
                          <a:latin typeface="Palatino Linotype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 Linotype"/>
              </a:rPr>
              <a:t>MDR survey results in Donetska oblast (28 02 2006)</a:t>
            </a:r>
            <a:endParaRPr b="1" lang="en-US" sz="4000" spc="-1" strike="noStrike">
              <a:solidFill>
                <a:srgbClr val="0066cc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 Linotype"/>
                <a:ea typeface="굴림"/>
              </a:rPr>
              <a:t>Drug Resistanc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Palatino Linotype"/>
                <a:ea typeface="굴림"/>
              </a:rPr>
              <a:t>Surveillance</a:t>
            </a:r>
            <a:endParaRPr b="1" lang="en-US" sz="4000" spc="-1" strike="noStrike">
              <a:solidFill>
                <a:srgbClr val="0066cc"/>
              </a:solidFill>
              <a:latin typeface="Palatino Linotyp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  <a:ea typeface="굴림"/>
              </a:rPr>
              <a:t>Magnitude and trend of drug resistance prevalence among new and re-treatment cases;</a:t>
            </a:r>
            <a:endParaRPr b="0" lang="en-US" sz="3600" spc="-1" strike="noStrike">
              <a:solidFill>
                <a:srgbClr val="0066cc"/>
              </a:solidFill>
              <a:latin typeface="Palatino Linotype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  <a:ea typeface="굴림"/>
              </a:rPr>
              <a:t>Useful parameter to evaluate current and past treatment programme;</a:t>
            </a:r>
            <a:endParaRPr b="0" lang="en-US" sz="3600" spc="-1" strike="noStrike">
              <a:solidFill>
                <a:srgbClr val="0066cc"/>
              </a:solidFill>
              <a:latin typeface="Palatino Linotype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  <a:ea typeface="굴림"/>
              </a:rPr>
              <a:t>Useful information for selection of effective initial treatment and retreatment regimens;</a:t>
            </a:r>
            <a:endParaRPr b="0" lang="en-US" sz="3600" spc="-1" strike="noStrike">
              <a:solidFill>
                <a:srgbClr val="0066cc"/>
              </a:solidFill>
              <a:latin typeface="Palatino Linotype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954080" y="115920"/>
            <a:ext cx="652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Should we treat pers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with MDR-T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92000" y="1447920"/>
            <a:ext cx="75600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Yes…for humanitarian rea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But health policy is not only driven by values, facts also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No... unless it is proven that it is feasible and cost-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But can we afford not to respon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16000" y="1484280"/>
            <a:ext cx="7488360" cy="0"/>
          </a:xfrm>
          <a:prstGeom prst="line">
            <a:avLst/>
          </a:prstGeom>
          <a:ln w="57240">
            <a:solidFill>
              <a:srgbClr val="835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0" y="0"/>
          <a:ext cx="9291600" cy="6956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91600" cy="69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DOTS-Plus: working definition</a:t>
            </a:r>
            <a:endParaRPr b="1" lang="en-US" sz="4000" spc="-1" strike="noStrike">
              <a:solidFill>
                <a:srgbClr val="0066cc"/>
              </a:solidFill>
              <a:latin typeface="Palatino Linotyp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DOTS-Plus is a case-management strategy under development designed to manage MDR-TB using 2nd line drugs within the DOTS strategy in low- and middle-income countries;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marL="343080"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DISCLAIMER: DOTS-Plus means DOTS first</a:t>
            </a:r>
            <a:endParaRPr b="0" lang="en-US" sz="2800" spc="-1" strike="noStrike">
              <a:solidFill>
                <a:srgbClr val="0066cc"/>
              </a:solidFill>
              <a:latin typeface="Palatino Linotype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Prevention of MDR TB</a:t>
            </a:r>
            <a:endParaRPr b="1" lang="en-US" sz="3600" spc="-1" strike="noStrike">
              <a:solidFill>
                <a:srgbClr val="0066cc"/>
              </a:solidFill>
              <a:latin typeface="Palatino Linotyp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Correct operations of the TB programme: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Diagnosis based on bacteriological examination;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Standard treatment under strict observation (DOT);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Uninterrupted supply of good-quality TB drugs (recommended FDC);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Proper recording and reporting;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Effectiveness of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National TB Programme</a:t>
            </a:r>
            <a:endParaRPr b="1" lang="en-US" sz="3600" spc="-1" strike="noStrike">
              <a:solidFill>
                <a:srgbClr val="0066cc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362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High cure rate of new TB cases;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Low (and constantly decreasing) MDR-TB rate;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Ultimately, high case-detection rate;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Potential criteria: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Ability to analyze cohort data;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Default and transfer rates less than 10%;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Continual supply of 1st line anti-TB drugs;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Application of DOT in 90% of all cases;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Effectiveness of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National TB Programme (con’t.)</a:t>
            </a:r>
            <a:endParaRPr b="1" lang="en-US" sz="3600" spc="-1" strike="noStrike">
              <a:solidFill>
                <a:srgbClr val="0066cc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Surveillance of anti-TB drug resistance is an essential tool for monitoring the effectivness of TB control programme in any country;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The use of drug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-</a:t>
            </a:r>
            <a:r>
              <a:rPr b="0" lang="lt-LT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sensitivity tests (DST)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was recommended many years ago;</a:t>
            </a:r>
            <a:r>
              <a:rPr b="0" lang="lt-LT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Cause of anti-TB dru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resistance</a:t>
            </a:r>
            <a:endParaRPr b="1" lang="en-US" sz="3600" spc="-1" strike="noStrike">
              <a:solidFill>
                <a:srgbClr val="0066cc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(M)DR-TB is man-made! Naturally drug-resistant organisms arising through spontaneous mutations are selected by inadequate drug regimens;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marL="329040" indent="-32904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Reasons – exposure to a single drug due to: 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marL="329040" indent="-3290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Poor adherence;</a:t>
            </a:r>
            <a:endParaRPr b="0" lang="en-US" sz="2400" spc="-1" strike="noStrike">
              <a:solidFill>
                <a:srgbClr val="0066cc"/>
              </a:solidFill>
              <a:latin typeface="Palatino Linotype"/>
            </a:endParaRPr>
          </a:p>
          <a:p>
            <a:pPr marL="329040" indent="-3290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Inappropriate prescription;</a:t>
            </a:r>
            <a:endParaRPr b="0" lang="en-US" sz="2400" spc="-1" strike="noStrike">
              <a:solidFill>
                <a:srgbClr val="0066cc"/>
              </a:solidFill>
              <a:latin typeface="Palatino Linotype"/>
            </a:endParaRPr>
          </a:p>
          <a:p>
            <a:pPr marL="329040" indent="-3290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Irregular drug supply;</a:t>
            </a:r>
            <a:endParaRPr b="0" lang="en-US" sz="2400" spc="-1" strike="noStrike">
              <a:solidFill>
                <a:srgbClr val="0066cc"/>
              </a:solidFill>
              <a:latin typeface="Palatino Linotype"/>
            </a:endParaRPr>
          </a:p>
          <a:p>
            <a:pPr marL="329040" indent="-3290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Poor drug quality;</a:t>
            </a:r>
            <a:endParaRPr b="0" lang="en-US" sz="2400" spc="-1" strike="noStrike">
              <a:solidFill>
                <a:srgbClr val="0066cc"/>
              </a:solidFill>
              <a:latin typeface="Palatino Linotype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MDR-TB</a:t>
            </a:r>
            <a:r>
              <a:rPr b="1" lang="en-US" sz="4400" spc="-1" strike="noStrike">
                <a:solidFill>
                  <a:srgbClr val="0066cc"/>
                </a:solidFill>
                <a:latin typeface="Palatino Linotype"/>
              </a:rPr>
              <a:t> </a:t>
            </a:r>
            <a:endParaRPr b="1" lang="en-US" sz="4400" spc="-1" strike="noStrike">
              <a:solidFill>
                <a:srgbClr val="0066cc"/>
              </a:solidFill>
              <a:latin typeface="Palatino Linotyp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Problems: 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longer to treat (up to 24 months); 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more expensive (up to 100x);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more side-effects; 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demanding follow-up mechanism;</a:t>
            </a:r>
            <a:r>
              <a:rPr b="0" lang="en-GB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	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requires complex diagnostics;</a:t>
            </a: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821960" y="901800"/>
            <a:ext cx="70372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revalence of (M)DR-TB  in some reg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HO / IUATLD / DZK / AKM 1997-1999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25680" y="2274840"/>
            <a:ext cx="5691240" cy="3048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25680" y="3798720"/>
            <a:ext cx="569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25680" y="3417840"/>
            <a:ext cx="569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25680" y="4179960"/>
            <a:ext cx="569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25680" y="4941720"/>
            <a:ext cx="569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25680" y="3036960"/>
            <a:ext cx="569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25680" y="4560840"/>
            <a:ext cx="569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16920" y="5322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5322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10000" y="5322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25680" y="5322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864560" y="5322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13640" y="5322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91040" y="5513400"/>
            <a:ext cx="61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%           20%           40%           60%          80%      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66920" y="2271600"/>
            <a:ext cx="1892160" cy="31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Isra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Latv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Tomsk Oblas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Ivanovo Oblas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China Hen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Eston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25680" y="4941720"/>
            <a:ext cx="1017720" cy="38124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25680" y="4560840"/>
            <a:ext cx="881280" cy="38088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25680" y="4179960"/>
            <a:ext cx="746280" cy="38088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25680" y="3798720"/>
            <a:ext cx="814680" cy="38124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25680" y="3417840"/>
            <a:ext cx="669960" cy="38088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25680" y="2274840"/>
            <a:ext cx="136800" cy="38088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5680" y="2655720"/>
            <a:ext cx="454320" cy="38124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40360" y="3798720"/>
            <a:ext cx="1420560" cy="38124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4941720"/>
            <a:ext cx="1353960" cy="38124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06960" y="4560840"/>
            <a:ext cx="1490400" cy="380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7280" y="4179960"/>
            <a:ext cx="1584360" cy="380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25680" y="2655720"/>
            <a:ext cx="569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00680" y="3417840"/>
            <a:ext cx="1002960" cy="380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03960" y="6008760"/>
            <a:ext cx="1490400" cy="380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67760" y="6008760"/>
            <a:ext cx="16682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33920" y="3036960"/>
            <a:ext cx="811080" cy="380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25680" y="3036960"/>
            <a:ext cx="408240" cy="38088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62480" y="2274840"/>
            <a:ext cx="406080" cy="380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19520" y="2655720"/>
            <a:ext cx="708120" cy="38124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71760" y="6008760"/>
            <a:ext cx="1490760" cy="38088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DR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71720" y="5972040"/>
            <a:ext cx="17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cep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7280" y="30402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56000" y="38037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56000" y="49546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09960" y="4579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97160" y="342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Countries/settings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with MDR rates higher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than 10% among combined cases</a:t>
            </a:r>
            <a:endParaRPr b="1" lang="en-US" sz="3600" spc="-1" strike="noStrike">
              <a:solidFill>
                <a:srgbClr val="0066cc"/>
              </a:solidFill>
              <a:latin typeface="Palatino Linotype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-900000" y="1484280"/>
          <a:ext cx="10728360" cy="55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00000" y="1484280"/>
                    <a:ext cx="1072836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640" y="41400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Boxplots of MDR prevalence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rates among New Cases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by European Sub-regions </a:t>
            </a:r>
            <a:br>
              <a:rPr sz="3200"/>
            </a:br>
            <a:endParaRPr b="1" lang="en-US" sz="3200" spc="-1" strike="noStrike">
              <a:solidFill>
                <a:srgbClr val="0066cc"/>
              </a:solidFill>
              <a:latin typeface="Palatino Linotype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95280" y="1425600"/>
          <a:ext cx="8424720" cy="459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25600"/>
                    <a:ext cx="8424720" cy="45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5796000" y="6381720"/>
            <a:ext cx="309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rd Global Report of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07:38:28Z</dcterms:created>
  <dc:creator>Bogdana Scherbak</dc:creator>
  <dc:description/>
  <dc:language>en-US</dc:language>
  <cp:lastModifiedBy>Carolina Population Center</cp:lastModifiedBy>
  <dcterms:modified xsi:type="dcterms:W3CDTF">2006-11-09T14:54:03Z</dcterms:modified>
  <cp:revision>38</cp:revision>
  <dc:subject/>
  <dc:title>Международные стандарты ведения случаев туберкулеза (версия 10, январь 2006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67236568</vt:r8>
  </property>
  <property fmtid="{D5CDD505-2E9C-101B-9397-08002B2CF9AE}" pid="3" name="_AuthorEmail">
    <vt:lpwstr>tleschenko@usaid.gov</vt:lpwstr>
  </property>
  <property fmtid="{D5CDD505-2E9C-101B-9397-08002B2CF9AE}" pid="4" name="_AuthorEmailDisplayName">
    <vt:lpwstr>Leschenko, Tamara (KIEV/OHST)</vt:lpwstr>
  </property>
  <property fmtid="{D5CDD505-2E9C-101B-9397-08002B2CF9AE}" pid="5" name="_EmailSubject">
    <vt:lpwstr>Logo</vt:lpwstr>
  </property>
  <property fmtid="{D5CDD505-2E9C-101B-9397-08002B2CF9AE}" pid="6" name="_ReviewingToolsShownOnce">
    <vt:lpwstr/>
  </property>
</Properties>
</file>